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C3E9E-91E0-4EDB-BEB4-A75E9F07E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7DE7-7C8E-4DFC-B263-F902D6083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30687-7DC1-4E28-8F37-C44E4B9F4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DB68E-AD33-4BF0-98F0-7B1ACA78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64F5-0282-4127-A044-C32197FA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0EA3-1283-4217-AEC5-B72F2D54B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9EF1-3064-4972-A199-CB064D526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B861-8E15-4F06-9E59-ADFC1186B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1174-AECB-4348-A61B-EB945DF4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CC6F-C9F3-4E18-9890-B6DA94DA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F08D-11C6-4E4F-B14C-2A17B0DA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34A1-2839-40EA-AD03-32291834F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3B96-DAAD-4895-A2CA-4C2109853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iete</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WEB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Perico</cp:lastModifiedBy>
  <dcterms:modified xsi:type="dcterms:W3CDTF">2007-01-03T13:51:49Z</dcterms:modified>
  <cp:revision>45</cp:revision>
  <dc:subject/>
  <dc:title>Taller de Ciencias en la Música </dc:title>
</cp:coreProperties>
</file>